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3CE9-4BC3-439A-92DF-18CF12790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D8E1-067C-4B35-B2CF-255E5EDA7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B69E4A-8AD1-4967-92A8-CD44AA2D4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558A5A-3DBB-44A0-B62F-A1A6E2F1A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EA8B16-4D4E-4ECE-A439-9B8FBBCF5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8726C2-4357-41BE-BBFC-715D85CB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80CFEC-3056-4567-A3A8-B56030D2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3A7826-5CD0-43D3-842C-8C85362A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841BB0-DAC1-4C52-8486-81C12AB3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AA47B1-7097-48E7-A05A-8458DD65E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0D0B59-3C39-4C6B-83B6-53F22C15A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8B5443-AC17-4B0E-B4D5-3BF97FF88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CB2B-AB32-4EBA-9AE2-50A6CB610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F4407D-7622-4411-A86D-3E991894D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40F52C-AE18-4A47-97B8-A92702D03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7D0369-547B-4BEA-BEEF-586E6E724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BE312F-8292-4B00-9CFB-451EF566D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7F2897-75F7-4DF0-A4B9-DA209D3E3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E77BDC-3C1B-4F72-A97D-1E4D46E9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B5940B-EC80-4009-AE4E-E21A7D82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406C5D-E676-4CCD-A263-E1FAFF1D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79F244-B090-461F-98EF-DA0E47B7B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AC9F9B-6BF4-4387-93A3-B0A1555A0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48C0-F6C9-440F-97A9-93CC5AD33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C6D298-3EAA-4F45-9A5D-22758BCC8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50C307-0317-4CA1-B054-C917E17F1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45477D-C27A-4E86-B906-0EEAF96D5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D3089D-5560-492A-8371-E8B311B52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1F65E4-D11A-4222-AE37-6033ED8E4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C012FE-9D05-4845-9BC9-8CE8B40A5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EAD6EB-3E92-4084-A047-91A4E49D6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7D62B7-9419-4EFD-A90B-F0EC9428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A2ED30-D1D0-4FC7-8312-B9931BFD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DE0750-81D4-4917-AB74-326F80A4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E277F-4A41-4914-8D6A-F3B0E7E6D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CB4646-E751-4973-ABD2-2EE6D468D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1BCBF3-30D9-43EA-AA53-7526DEB37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813651-5D23-4527-B6E5-DEFD03FFD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6E0FF3-05F3-47B2-B4A1-5901CD56E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9BC80E-487C-4444-BED9-434D4025B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9DD534-FC6E-4065-A8C4-B10E16D91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010F27-D66C-4C85-9DA0-8356EC44B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103FF8-457C-4883-B650-96CF2F70B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D7F396-45D9-483F-AD0D-F5C5C81A3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3109F5-B76A-4725-856E-97F4D2DA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91D96-BB6E-4C4C-9328-3372602C4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B028FB-82BC-4F59-A6A5-77EB541D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FB4E11-C737-4B09-8277-6E461127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D83093-9D6D-43DE-934D-0B37217B3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8C8AEC-29EE-4A23-A62B-4F308ED3F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2763CB-05D7-4F3A-B576-11B390456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0CDCD-C5E1-4490-812F-B8BAA2549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6DAA4-1B2F-43AE-A8A6-5288C663F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A5968-B655-4527-8E7A-903790BE2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334F6-75FF-49AB-BC6D-C210B930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D6290-18FF-47EB-9F6A-8057CB71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1C8F-51D4-4996-B947-7F35F8005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5D8AB-F8F3-4E7F-AA88-584058D9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7F439-7BA1-4E11-A1C7-B454E521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839CD-BD8F-4BEB-88B1-332920BBC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96A00-E91F-43DE-8DFF-779B17355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ED068-76B4-4D74-8A55-BDA3C9A4D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C73A9-2143-410B-A7E6-6B49F5F4A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F841C-EAAE-4D80-8D4B-94478EB34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84638-380D-4288-BD17-28AA90804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964C6-7DEF-4C9D-AC86-600622A80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843CE-F4A3-4AE1-831C-62E6B616A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32C1-FA5B-404A-BF85-501F15DC8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CAA24-B018-406E-9671-978E05B83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83F74-FA93-4F2C-B935-26C45E89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56445-B22B-48D3-997C-83F8AE7D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9F9D7-687B-46EA-8114-DBFCF332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7A805-72AF-4942-8A99-A18F11543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1A2B3-AE8E-4CAB-B34C-E73389566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36F12-0FDF-4AA8-94D9-DD30F2E9D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5CFFE-C341-417C-99BD-43C78E5E4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BF640-5B37-4F16-9680-720B18446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65E8D-3773-4375-A22D-53EDAFE0B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F685-D416-4BF0-9DEB-B7868167C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AE862-BAD9-418C-A9AF-1A9CD0A8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D44CF-BA20-4CFA-97FB-150EB6F9A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4A00B-B1CA-491F-BCF8-D39D24635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6CD71-A133-4AB4-8A6B-80C46201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93CE9-439A-472E-94E0-0139E8BE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770D9-3ADF-4805-BC2A-E56BD8A4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7569B-92EE-4BC1-A91E-1ED239770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EDA1B-DE7D-49C1-A1AB-E9389EB49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7270B-5E7A-47A0-9201-8C4DFA443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FDFB2-176E-4FD6-A85C-2AD577064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BE1E-64B5-4DCC-B485-CB54DC7B1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8560B-0A55-40E3-85E4-A71531C80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5AA95-9035-414C-A44A-68C2440C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068CC-C8C6-423E-ADB7-91E07959F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5D01E-F0FD-4A88-B0F6-2B0CB5D77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A0A4B-BF04-4551-BA61-F2CF988A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D4579-995E-40AF-A61F-CDB8C6E0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EF854-A8C0-4BCD-9911-CAF85D13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00023-CC47-4E02-AE3C-6F1CACF5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A18BA-E534-4355-BD38-65943C43F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A52DE-B15F-4CB9-8EE1-3D80EC099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EFE4-5E5F-4B4A-9F3C-DFA8098CC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4FEE9-DF9B-4767-B7FB-E72F16501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7588A-5CBA-4084-995D-B50FC4235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C0B05-6443-4363-8877-D8E03A4B5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C9AD6-66AB-44D7-8E58-986CCF7D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7208F-214C-4FC8-B37C-250AC1489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142FC8-2BE6-4EA9-B872-5A67A2858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96592-9871-4ED5-9679-784A475AF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B0858-9ECA-4430-AA0B-A905680E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C7BE1-18EC-47D9-B62B-54E35433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1FEDC-1494-4C4F-A6C4-572103FF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147C-C731-4527-813C-DBA3397C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592B8-76C1-4509-86B3-C81072A9B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8EC9E-6CDF-40B1-AA3A-034DEB303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1C79D-CDCA-4F8F-A659-7BAABE3E4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937F6F-F743-4E10-A87C-9730999B4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6E9B46-0A4C-4377-86CA-A0273F5B9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C25AB7-C71E-4AD4-9837-05C6714F4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F7600-ECF0-4BBD-9609-699459E41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2901A9-C977-4453-B60D-853A550A4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B51585-7C26-49E2-A1DE-3D12C20C4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7B0826-C707-4A39-A7BE-143DAB91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376F-5E98-4D1E-B8D0-570CF9AE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64C3A-0AD6-45CB-B088-E6AB027C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1C11E-5A01-43AD-8DF3-23683114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7B474-F98E-499A-8A87-3E9099B0C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2FC3B7-4417-4CAA-8C14-8A6560175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FBB35-AF43-4CB2-9D72-19393C713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20DBB9-A066-4E0A-BCE8-E588A6864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F2FE27-125E-4D6A-BEEF-C26FB04B3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56F435-CA69-4C7A-AC1B-3E3934893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C86A44-309F-46B9-9A00-4DD515E38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2432D6-6018-4877-97AA-46D99BCE3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4E16-717C-4C7C-B09A-292BC6A1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34CBDD-111B-4067-BCD3-F07D51EF3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CAD312-8A04-4FC0-961A-120A821B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475BB3-6558-4B5A-84E4-D7EBF38E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D6DB2C-2D53-46B0-B387-89D6CBEC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6382A7-952A-46FD-AABB-E36C08362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24793F-4895-4D8C-A133-892C6C5A6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611CAD-0830-49EE-A5CF-B599D0DBE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DB15C6-A8EA-4A08-B20C-A404BB719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4108E9-070F-4DE0-888D-8FA56809C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429868-D60C-4F0D-BCC4-3786BA0C0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99727-2799-4238-9468-29D222EE455B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3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24515-9C49-4C58-9A02-94799EB03F74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4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44E7C-DB61-4ABA-871B-A0791B2A4630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9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87274-5E12-40F3-8D48-C30B1B1BCADA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74048-29DE-4261-A55C-F2A4761E5575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9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E54A6-6C42-45C1-AB46-6355E1F15799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3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E57E0-127C-4F5C-AADD-E9B4C6CBDA2A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8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5066F-DED8-4DFD-B25E-6CF02EF8F1E9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65E98-1164-40C7-A87F-2E8D548E8F64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7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24315-D5D0-48A9-8F82-4E98B51AEA4C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ED4B4-E50E-4EE2-B984-FEBEAA7C2A7F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359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104C3-6CE8-4D4A-9A84-9A34A5B72583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500120" y="1642680"/>
            <a:ext cx="6500880" cy="1708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2060"/>
                </a:solidFill>
                <a:latin typeface="Tahoma"/>
              </a:rPr>
              <a:t>Подчинительныесоюзы</a:t>
            </a:r>
            <a:endParaRPr b="1" lang="en-US" sz="5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1285920" y="6667560"/>
            <a:ext cx="6215040" cy="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" spc="-1" strike="noStrike">
              <a:solidFill>
                <a:srgbClr val="c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285560" y="642960"/>
            <a:ext cx="65530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Verdana"/>
              </a:rPr>
              <a:t>Творческое зада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28400" y="1356840"/>
            <a:ext cx="8391240" cy="5094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Вставьте подходящие по смыслу союз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Определите их вид по строению и разряд по значению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78527"/>
                </a:solidFill>
                <a:latin typeface="Verdana"/>
              </a:rPr>
              <a:t>Редеет мгла ненастной ночи, … близкий день уж настает. (А.Пушкин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78527"/>
                </a:solidFill>
                <a:latin typeface="Verdana"/>
              </a:rPr>
              <a:t>Не может волк … охнуть, … вздохнуть. (И.Крылов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78527"/>
                </a:solidFill>
                <a:latin typeface="Verdana"/>
              </a:rPr>
              <a:t>Мал золотник … дорог. (Пословица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78527"/>
                </a:solidFill>
                <a:latin typeface="Verdana"/>
              </a:rPr>
              <a:t>Мы не надеялись никогда более встретиться, … встретились. (М.Лермонтов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78527"/>
                </a:solidFill>
                <a:latin typeface="Verdana"/>
              </a:rPr>
              <a:t>Твой конь не боится опасных трудов, он, чуя господскую волю, … смирно стоит под стрелами врагов, … мчится по бранному полю. (А.Пушкин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Овал 3"/>
          <p:cNvSpPr/>
          <p:nvPr/>
        </p:nvSpPr>
        <p:spPr>
          <a:xfrm>
            <a:off x="5357880" y="2000160"/>
            <a:ext cx="557280" cy="42876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eebe3"/>
                </a:solidFill>
                <a:latin typeface="Verdana"/>
              </a:rPr>
              <a:t>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Овал 4"/>
          <p:cNvSpPr/>
          <p:nvPr/>
        </p:nvSpPr>
        <p:spPr>
          <a:xfrm>
            <a:off x="3143160" y="2786040"/>
            <a:ext cx="642960" cy="42876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eebe3"/>
                </a:solidFill>
                <a:latin typeface="Verdana"/>
              </a:rPr>
              <a:t>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Овал 5"/>
          <p:cNvSpPr/>
          <p:nvPr/>
        </p:nvSpPr>
        <p:spPr>
          <a:xfrm>
            <a:off x="4714920" y="2786040"/>
            <a:ext cx="642960" cy="42876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eebe3"/>
                </a:solidFill>
                <a:latin typeface="Verdana"/>
              </a:rPr>
              <a:t>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Овал 6"/>
          <p:cNvSpPr/>
          <p:nvPr/>
        </p:nvSpPr>
        <p:spPr>
          <a:xfrm>
            <a:off x="3000240" y="3571920"/>
            <a:ext cx="642960" cy="42876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eebe3"/>
                </a:solidFill>
                <a:latin typeface="Verdana"/>
              </a:rPr>
              <a:t>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Овал 7"/>
          <p:cNvSpPr/>
          <p:nvPr/>
        </p:nvSpPr>
        <p:spPr>
          <a:xfrm>
            <a:off x="7858080" y="4000680"/>
            <a:ext cx="642960" cy="42840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eebe3"/>
                </a:solidFill>
                <a:latin typeface="Verdana"/>
              </a:rPr>
              <a:t>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Овал 8"/>
          <p:cNvSpPr/>
          <p:nvPr/>
        </p:nvSpPr>
        <p:spPr>
          <a:xfrm>
            <a:off x="3714840" y="5286240"/>
            <a:ext cx="557280" cy="42876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eebe3"/>
                </a:solidFill>
                <a:latin typeface="Verdana"/>
              </a:rPr>
              <a:t>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Овал 9"/>
          <p:cNvSpPr/>
          <p:nvPr/>
        </p:nvSpPr>
        <p:spPr>
          <a:xfrm>
            <a:off x="2071800" y="5643720"/>
            <a:ext cx="557280" cy="42840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eebe3"/>
                </a:solidFill>
                <a:latin typeface="Verdana"/>
              </a:rPr>
              <a:t>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214280" y="642600"/>
            <a:ext cx="65534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74221"/>
                </a:solidFill>
                <a:latin typeface="Verdana"/>
              </a:rPr>
              <a:t>Понаблюдаем!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357120" y="1500120"/>
            <a:ext cx="8462880" cy="4951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514440" indent="-51444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Мы отправились в поход рано утром, …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была солнечная погода</a:t>
            </a:r>
            <a:r>
              <a:rPr b="1" lang="ru-RU" sz="2400" spc="-1" strike="noStrike">
                <a:solidFill>
                  <a:srgbClr val="274221"/>
                </a:solidFill>
                <a:latin typeface="Verdana"/>
              </a:rPr>
              <a:t>. (</a:t>
            </a:r>
            <a:r>
              <a:rPr b="1" i="1" lang="ru-RU" sz="2400" spc="-1" strike="noStrike">
                <a:solidFill>
                  <a:srgbClr val="274221"/>
                </a:solidFill>
                <a:latin typeface="Verdana"/>
              </a:rPr>
              <a:t>почему?</a:t>
            </a:r>
            <a:r>
              <a:rPr b="1" lang="ru-RU" sz="2400" spc="-1" strike="noStrike">
                <a:solidFill>
                  <a:srgbClr val="274221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Мы отправились в поход рано утром, …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до вечера добраться до нужного пункта. </a:t>
            </a:r>
            <a:r>
              <a:rPr b="1" lang="ru-RU" sz="2400" spc="-1" strike="noStrike">
                <a:solidFill>
                  <a:srgbClr val="274221"/>
                </a:solidFill>
                <a:latin typeface="Verdana"/>
              </a:rPr>
              <a:t>(</a:t>
            </a:r>
            <a:r>
              <a:rPr b="1" i="1" lang="ru-RU" sz="2400" spc="-1" strike="noStrike">
                <a:solidFill>
                  <a:srgbClr val="274221"/>
                </a:solidFill>
                <a:latin typeface="Verdana"/>
              </a:rPr>
              <a:t>с какой целью?</a:t>
            </a:r>
            <a:r>
              <a:rPr b="1" lang="ru-RU" sz="2400" spc="-1" strike="noStrike">
                <a:solidFill>
                  <a:srgbClr val="274221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Мы отправились в поход рано утром, …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была солнечная погода. </a:t>
            </a:r>
            <a:r>
              <a:rPr b="1" lang="ru-RU" sz="2400" spc="-1" strike="noStrike">
                <a:solidFill>
                  <a:srgbClr val="274221"/>
                </a:solidFill>
                <a:latin typeface="Verdana"/>
              </a:rPr>
              <a:t>(</a:t>
            </a:r>
            <a:r>
              <a:rPr b="1" i="1" lang="ru-RU" sz="2400" spc="-1" strike="noStrike">
                <a:solidFill>
                  <a:srgbClr val="274221"/>
                </a:solidFill>
                <a:latin typeface="Verdana"/>
              </a:rPr>
              <a:t>когда?</a:t>
            </a:r>
            <a:r>
              <a:rPr b="1" lang="ru-RU" sz="2400" spc="-1" strike="noStrike">
                <a:solidFill>
                  <a:srgbClr val="274221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Мы бы отправились в поход рано утром, 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была солнечная погода</a:t>
            </a:r>
            <a:r>
              <a:rPr b="1" lang="ru-RU" sz="2400" spc="-1" strike="noStrike">
                <a:solidFill>
                  <a:srgbClr val="274221"/>
                </a:solidFill>
                <a:latin typeface="Verdana"/>
              </a:rPr>
              <a:t>. (</a:t>
            </a:r>
            <a:r>
              <a:rPr b="1" i="1" lang="ru-RU" sz="2400" spc="-1" strike="noStrike">
                <a:solidFill>
                  <a:srgbClr val="274221"/>
                </a:solidFill>
                <a:latin typeface="Verdana"/>
              </a:rPr>
              <a:t>при каком условии?</a:t>
            </a:r>
            <a:r>
              <a:rPr b="1" lang="ru-RU" sz="2400" spc="-1" strike="noStrike">
                <a:solidFill>
                  <a:srgbClr val="274221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Овал 3"/>
          <p:cNvSpPr/>
          <p:nvPr/>
        </p:nvSpPr>
        <p:spPr>
          <a:xfrm>
            <a:off x="6715080" y="1285920"/>
            <a:ext cx="1857600" cy="55728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78527"/>
                </a:solidFill>
                <a:latin typeface="Verdana"/>
              </a:rPr>
              <a:t>потому ч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Овал 4"/>
          <p:cNvSpPr/>
          <p:nvPr/>
        </p:nvSpPr>
        <p:spPr>
          <a:xfrm>
            <a:off x="6715080" y="2214720"/>
            <a:ext cx="1857600" cy="55692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78527"/>
                </a:solidFill>
                <a:latin typeface="Verdana"/>
              </a:rPr>
              <a:t>чт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Овал 5"/>
          <p:cNvSpPr/>
          <p:nvPr/>
        </p:nvSpPr>
        <p:spPr>
          <a:xfrm>
            <a:off x="6643800" y="3357720"/>
            <a:ext cx="1857240" cy="55692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78527"/>
                </a:solidFill>
                <a:latin typeface="Verdana"/>
              </a:rPr>
              <a:t>ког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Овал 6"/>
          <p:cNvSpPr/>
          <p:nvPr/>
        </p:nvSpPr>
        <p:spPr>
          <a:xfrm>
            <a:off x="7072200" y="4214880"/>
            <a:ext cx="1857600" cy="55728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78527"/>
                </a:solidFill>
                <a:latin typeface="Verdana"/>
              </a:rPr>
              <a:t>если 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071720" y="356760"/>
            <a:ext cx="69292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Verdana"/>
              </a:rPr>
              <a:t>Составим таблицу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3" name="Прямоугольник 4"/>
          <p:cNvSpPr/>
          <p:nvPr/>
        </p:nvSpPr>
        <p:spPr>
          <a:xfrm>
            <a:off x="2428920" y="1428840"/>
            <a:ext cx="3643200" cy="928440"/>
          </a:xfrm>
          <a:prstGeom prst="rect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7d6"/>
                </a:solidFill>
                <a:latin typeface="Verdana"/>
              </a:rPr>
              <a:t>Подчинительные сою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Прямоугольник 5"/>
          <p:cNvSpPr/>
          <p:nvPr/>
        </p:nvSpPr>
        <p:spPr>
          <a:xfrm>
            <a:off x="357120" y="2786040"/>
            <a:ext cx="1857600" cy="2071800"/>
          </a:xfrm>
          <a:prstGeom prst="rect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47d6"/>
                </a:solidFill>
                <a:uFillTx/>
                <a:latin typeface="Verdana"/>
              </a:rPr>
              <a:t>Причи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Оттого ч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Так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Ввиду того ч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Потому ч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Прямоугольник 6"/>
          <p:cNvSpPr/>
          <p:nvPr/>
        </p:nvSpPr>
        <p:spPr>
          <a:xfrm>
            <a:off x="5143680" y="5000760"/>
            <a:ext cx="3000240" cy="1571400"/>
          </a:xfrm>
          <a:prstGeom prst="rect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47d6"/>
                </a:solidFill>
                <a:uFillTx/>
                <a:latin typeface="Verdana"/>
              </a:rPr>
              <a:t>Изъяснит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Ч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Чт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Прямоугольник 7"/>
          <p:cNvSpPr/>
          <p:nvPr/>
        </p:nvSpPr>
        <p:spPr>
          <a:xfrm>
            <a:off x="1285920" y="5000760"/>
            <a:ext cx="3000240" cy="1571400"/>
          </a:xfrm>
          <a:prstGeom prst="rect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47d6"/>
                </a:solidFill>
                <a:uFillTx/>
                <a:latin typeface="Verdana"/>
              </a:rPr>
              <a:t>Сравнит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Буд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Слов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Как буд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Точ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8"/>
          <p:cNvSpPr/>
          <p:nvPr/>
        </p:nvSpPr>
        <p:spPr>
          <a:xfrm>
            <a:off x="2643120" y="2786040"/>
            <a:ext cx="1857600" cy="2071800"/>
          </a:xfrm>
          <a:prstGeom prst="rect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47d6"/>
                </a:solidFill>
                <a:uFillTx/>
                <a:latin typeface="Verdana"/>
              </a:rPr>
              <a:t>Целе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Для того чт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С тем чт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9"/>
          <p:cNvSpPr/>
          <p:nvPr/>
        </p:nvSpPr>
        <p:spPr>
          <a:xfrm>
            <a:off x="4857840" y="2786040"/>
            <a:ext cx="1857240" cy="2071800"/>
          </a:xfrm>
          <a:prstGeom prst="rect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47d6"/>
                </a:solidFill>
                <a:uFillTx/>
                <a:latin typeface="Verdana"/>
              </a:rPr>
              <a:t>Врем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Ед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Лиш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Лишь толь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По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10"/>
          <p:cNvSpPr/>
          <p:nvPr/>
        </p:nvSpPr>
        <p:spPr>
          <a:xfrm>
            <a:off x="7000920" y="2786040"/>
            <a:ext cx="1857240" cy="2071800"/>
          </a:xfrm>
          <a:prstGeom prst="rect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47d6"/>
                </a:solidFill>
                <a:uFillTx/>
                <a:latin typeface="Verdana"/>
              </a:rPr>
              <a:t>Усло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Р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Как ско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Ес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0" name="Прямая со стрелкой 12"/>
          <p:cNvCxnSpPr>
            <a:stCxn id="553" idx="2"/>
          </p:cNvCxnSpPr>
          <p:nvPr/>
        </p:nvCxnSpPr>
        <p:spPr>
          <a:xfrm flipH="1">
            <a:off x="1285200" y="2356920"/>
            <a:ext cx="2964600" cy="358200"/>
          </a:xfrm>
          <a:prstGeom prst="straightConnector1">
            <a:avLst/>
          </a:prstGeom>
          <a:ln w="28440">
            <a:solidFill>
              <a:srgbClr val="ff8000"/>
            </a:solidFill>
            <a:miter/>
            <a:tailEnd len="med" type="arrow" w="med"/>
          </a:ln>
        </p:spPr>
      </p:cxnSp>
      <p:cxnSp>
        <p:nvCxnSpPr>
          <p:cNvPr id="561" name="Прямая со стрелкой 14"/>
          <p:cNvCxnSpPr>
            <a:stCxn id="553" idx="2"/>
            <a:endCxn id="557" idx="0"/>
          </p:cNvCxnSpPr>
          <p:nvPr/>
        </p:nvCxnSpPr>
        <p:spPr>
          <a:xfrm flipH="1">
            <a:off x="3571200" y="2356920"/>
            <a:ext cx="678600" cy="429480"/>
          </a:xfrm>
          <a:prstGeom prst="straightConnector1">
            <a:avLst/>
          </a:prstGeom>
          <a:ln w="28440">
            <a:solidFill>
              <a:srgbClr val="ff8000"/>
            </a:solidFill>
            <a:miter/>
            <a:tailEnd len="med" type="arrow" w="med"/>
          </a:ln>
        </p:spPr>
      </p:cxnSp>
      <p:cxnSp>
        <p:nvCxnSpPr>
          <p:cNvPr id="562" name="Прямая со стрелкой 16"/>
          <p:cNvCxnSpPr>
            <a:stCxn id="553" idx="2"/>
            <a:endCxn id="558" idx="0"/>
          </p:cNvCxnSpPr>
          <p:nvPr/>
        </p:nvCxnSpPr>
        <p:spPr>
          <a:xfrm>
            <a:off x="4249800" y="2356920"/>
            <a:ext cx="1537200" cy="429480"/>
          </a:xfrm>
          <a:prstGeom prst="straightConnector1">
            <a:avLst/>
          </a:prstGeom>
          <a:ln w="28440">
            <a:solidFill>
              <a:srgbClr val="ff8000"/>
            </a:solidFill>
            <a:miter/>
            <a:tailEnd len="med" type="arrow" w="med"/>
          </a:ln>
        </p:spPr>
      </p:cxnSp>
      <p:cxnSp>
        <p:nvCxnSpPr>
          <p:cNvPr id="563" name="Прямая со стрелкой 18"/>
          <p:cNvCxnSpPr>
            <a:stCxn id="553" idx="2"/>
            <a:endCxn id="559" idx="0"/>
          </p:cNvCxnSpPr>
          <p:nvPr/>
        </p:nvCxnSpPr>
        <p:spPr>
          <a:xfrm>
            <a:off x="4249800" y="2356920"/>
            <a:ext cx="3680640" cy="429480"/>
          </a:xfrm>
          <a:prstGeom prst="straightConnector1">
            <a:avLst/>
          </a:prstGeom>
          <a:ln w="28440">
            <a:solidFill>
              <a:srgbClr val="ff8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214280" y="428400"/>
            <a:ext cx="655344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Verdana"/>
              </a:rPr>
              <a:t>Творческое зада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57120" y="1428840"/>
            <a:ext cx="8462880" cy="5022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Спишите предложение, расставляя знаки препинания, и определите вид союз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Мать если бы она осталась с сыном чувствовала бы себя спокойне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Какой-то с молоду Скворец так петь щегленком научился как будто бы щегленком сам родилс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Если мы будем читать слишком быстро или слишком медленно мы ничего не пойме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142640" y="500040"/>
            <a:ext cx="65530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Verdana"/>
              </a:rPr>
              <a:t>Словарь трудных слов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357120" y="1785960"/>
            <a:ext cx="8462880" cy="4665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47d6"/>
                </a:solidFill>
                <a:latin typeface="Verdana"/>
              </a:rPr>
              <a:t>Свет</a:t>
            </a:r>
            <a:r>
              <a:rPr b="1" lang="ru-RU" sz="4800" spc="-1" strike="noStrike" u="sng">
                <a:solidFill>
                  <a:srgbClr val="ff0000"/>
                </a:solidFill>
                <a:uFillTx/>
                <a:latin typeface="Verdana"/>
              </a:rPr>
              <a:t>о</a:t>
            </a:r>
            <a:r>
              <a:rPr b="1" lang="ru-RU" sz="4800" spc="-1" strike="noStrike">
                <a:solidFill>
                  <a:srgbClr val="0047d6"/>
                </a:solidFill>
                <a:latin typeface="Verdana"/>
              </a:rPr>
              <a:t>фор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47d6"/>
                </a:solidFill>
                <a:latin typeface="Verdana"/>
              </a:rPr>
              <a:t>Сем</a:t>
            </a:r>
            <a:r>
              <a:rPr b="1" lang="ru-RU" sz="4800" spc="-1" strike="noStrike" u="sng">
                <a:solidFill>
                  <a:srgbClr val="ff0000"/>
                </a:solidFill>
                <a:uFillTx/>
                <a:latin typeface="Verdana"/>
              </a:rPr>
              <a:t>а</a:t>
            </a:r>
            <a:r>
              <a:rPr b="1" lang="ru-RU" sz="4800" spc="-1" strike="noStrike">
                <a:solidFill>
                  <a:srgbClr val="0047d6"/>
                </a:solidFill>
                <a:latin typeface="Verdana"/>
              </a:rPr>
              <a:t>фор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87280" y="356760"/>
            <a:ext cx="655344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Verdana"/>
              </a:rPr>
              <a:t>Задания в рамках ЕГЭ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285840" y="1785960"/>
            <a:ext cx="8534160" cy="4665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В каком предложении нет предлога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Плохо, когда не с кем поговори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Дом напротив построили лет десять назад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Он продолжал путь, несмотря на усталос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Остановка находится около школ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187280" y="356760"/>
            <a:ext cx="655344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Verdana"/>
              </a:rPr>
              <a:t>Задания в рамках ЕГЭ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357120" y="1785960"/>
            <a:ext cx="8462880" cy="4665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Укажите пример раздельного написания предлог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Звонил (в) продолжение получас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Двигаться (на) встречу ветр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Узнали (на) счет контрольн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Выступить (в) место мен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87280" y="356760"/>
            <a:ext cx="655344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Verdana"/>
              </a:rPr>
              <a:t>Задания в рамках ЕГЭ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357120" y="1857240"/>
            <a:ext cx="8462880" cy="4594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Из данного предложения выпишите производный предлог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Verdana"/>
              </a:rPr>
              <a:t>    </a:t>
            </a:r>
            <a:r>
              <a:rPr b="1" lang="ru-RU" sz="4400" spc="-1" strike="noStrike">
                <a:solidFill>
                  <a:srgbClr val="7030a0"/>
                </a:solidFill>
                <a:latin typeface="Verdana"/>
              </a:rPr>
              <a:t>Вдоль по улице метелица метет, за метелицей мой миленький идет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2T09:12:41Z</dcterms:created>
  <dc:creator>MaTeMaTiKa</dc:creator>
  <dc:description/>
  <dc:language>en-US</dc:language>
  <cp:lastModifiedBy>Windows 7</cp:lastModifiedBy>
  <dcterms:modified xsi:type="dcterms:W3CDTF">2013-05-07T01:46:07Z</dcterms:modified>
  <cp:revision>10</cp:revision>
  <dc:subject/>
  <dc:title>Name of presentation</dc:title>
</cp:coreProperties>
</file>